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996-F1E8-4756-8E6D-D5EC7E0C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D5B-B791-4182-AFA6-911D0444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909-0B7A-4040-B1FD-8CDDE79B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3BA-B508-49C4-A20E-852D4B72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FC9-E48B-41B6-880C-27EFC8AE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770-36A3-4175-8DF4-94BF356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C6A-A55D-4D8F-BB3E-1F46C18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0A2-4369-458A-952D-4E9771C4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3AF-A15B-4C2D-AB4A-62CA32E1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B2C-58F3-4820-A75B-216FFC3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3DD-176F-4FA1-90DC-899CD5F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970-397D-4A82-AD2D-9BC7BC0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52CB-2BF7-4880-941F-A61F4B19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n.wikipedia.org/wiki/Fil:Romeo_and_juliet_brow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n.wikipedia.org/wiki/Fil:Romeo_and_juliet_brown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2664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RJ collage"/>
          <p:cNvPicPr/>
          <p:nvPr/>
        </p:nvPicPr>
        <p:blipFill>
          <a:blip r:embed="rId1"/>
          <a:stretch/>
        </p:blipFill>
        <p:spPr>
          <a:xfrm>
            <a:off x="2543040" y="2014560"/>
            <a:ext cx="40579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Romeo and Juliet måla av Ford Madox Brown"/>
          <p:cNvPicPr/>
          <p:nvPr/>
        </p:nvPicPr>
        <p:blipFill>
          <a:blip r:embed="rId1"/>
          <a:stretch/>
        </p:blipFill>
        <p:spPr>
          <a:xfrm>
            <a:off x="155520" y="46080"/>
            <a:ext cx="2619360" cy="36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Romeo and Juliet, Sir Frank Dicksee"/>
          <p:cNvPicPr/>
          <p:nvPr/>
        </p:nvPicPr>
        <p:blipFill>
          <a:blip r:embed="rId2"/>
          <a:stretch/>
        </p:blipFill>
        <p:spPr>
          <a:xfrm>
            <a:off x="4284720" y="476280"/>
            <a:ext cx="3333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402000" cy="40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4164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67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68720" cy="2228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1687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3054240" cy="381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152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38240" y="1523880"/>
            <a:ext cx="5267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714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10:09Z</dcterms:created>
  <dc:creator>helen3009</dc:creator>
  <dc:description/>
  <dc:language>en-US</dc:language>
  <cp:lastModifiedBy>helen3009</cp:lastModifiedBy>
  <dcterms:modified xsi:type="dcterms:W3CDTF">2007-12-19T10:34:05Z</dcterms:modified>
  <cp:revision>3</cp:revision>
  <dc:subject/>
  <dc:title>Lysbilde 1</dc:title>
</cp:coreProperties>
</file>